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B6C8-D7AA-4125-A688-5673D6C5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C82A-06AC-4AA9-A291-8CE87324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4D0-EA7B-4FBD-9542-A70D42C0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8A7-F61F-4E84-B3D3-95C73D7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021-EF63-4068-B2D3-2C5A809F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B66-90AD-4887-BB4C-45549A8A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7157-4D79-415D-B2BE-AB5F619B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50C-A7C1-4AB5-87BE-416EF47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7E6F-AE0E-4943-8C0E-BB8997D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B7B9-0BD0-4BE8-AADA-196A225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AAE-6E2F-49C6-9C9C-6E4C5A7F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453-7A91-44FF-B09A-CAD9817D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C45-DC86-42EC-9881-E84A6EB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141-36B6-4213-8A91-3832735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842A-9430-4044-93EE-2CA51EC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BF6F-2372-45AF-BC51-17856A0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6AA7-6141-4923-9260-54FCDEC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6E1A-2F27-45C0-BFBA-CCA8FCD1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C9C-7E6E-41F5-B37D-D2B99AC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B605-9F14-43D7-9F9C-A67350BC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A1A6-989B-4FD1-B06E-1B8CEE1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CD93-1F5E-4096-98EC-3A12F16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8EA4-2500-4EBC-9F23-7FEE3725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03BA-3E08-48EF-9F89-3D7598A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D3E-7800-46B4-8C00-EB0F997D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02B5-C700-490D-8A34-8B251A3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0E30-890A-456D-9A42-67A780A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9AAB-9E92-4C2E-A69C-26FEBD6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D76C-BFF6-450C-8CD2-55F7DEB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807F-847C-4E63-B156-54262682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FE49-9FEB-4832-93AD-CA463286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8EF3-AC8B-458E-A985-C40C60D0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DCBF-381D-4CDC-A053-3E84FC69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6798-79D8-4CCD-8859-92042A1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AF02-0D99-4FE0-8611-FD41F89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AEC-EDA8-4AD6-90B0-B155D93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0F76-7DEC-492D-BDD6-7388BC8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B39C-211D-4ACD-93C3-9ADC314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48B7-E016-4ECD-AF50-D73284BE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BBCE-32C4-46DB-90EF-9ABA9EB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C2BE-1B5E-4BC1-AA10-4D1ED94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3355-DB37-495C-A0CD-98D6791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186B-9B02-4344-B86B-B2180290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7A0D-36EE-4658-B580-559314D1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366C-FCC2-4CDD-BE27-BD750BEE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BA05-F87E-48DB-B32D-BEB65B52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BCE-6E78-4A5F-AE81-09318352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F99A-823B-437B-AC77-0098D1B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E7E0-7F5E-42D9-96EF-EB3482D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472DC-459C-4945-9895-FCA2442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34F0-D055-4BF5-A5F5-F1A4D8C4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E83F-75EF-45F9-B83F-7FB13CF0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AEA1-8AB8-4FC2-B517-018357B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A74C-2B26-4F13-897F-0131C95A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6087-D59A-4883-A77A-5A714DA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EDA6-1499-411E-8355-8C48A962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CA52-2952-41D3-B71B-6022823C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400-FCA9-4FE9-A032-F4DBB144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0693-2725-4F6A-ADD3-7EE5BED9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BDC7-6A30-4844-9FF8-B1F27AFE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A89A-8D28-450D-BD10-676E119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F52E-5757-4880-8CE0-CAE84450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93103-CF52-46F4-A79D-4C668B4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9E6C-6663-40D0-8720-1EE95D1E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962E-8CD2-4622-B7A4-BA59B85C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62A1-A6D1-41CE-B9BD-70FB7FB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6B94-1161-4DE4-8543-EF2B2F3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B96F-F42E-4E59-A906-8D988FC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CC6-2802-40F4-B5BE-09133F9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0900-58AD-440D-9F84-D464CC4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2CB48-D408-41B3-831E-75A1139C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67F3-0F81-4ECE-8CE0-2F0AD79B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E806-1EA4-4378-AB6D-7FF3127E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B0E1-27E7-44E0-BE3C-BCD5EE9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BDDF-D098-4F4F-94CB-B9D4B7E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1D59-9C2B-4B08-976F-B4C8B299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34BEE-AE09-48F4-B20B-6D7ABF0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7B2C-5F59-4C42-9F5B-00522D6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11E5-738D-4E62-8A39-0DA1E67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5AF-E887-49C8-B464-9A8A8B9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BE75F-DE6F-4FB9-88BC-4A37F70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631E-F002-4DA5-A3CE-1191BCD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DC20-3906-4EBF-847B-E80FC2E2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2365-3201-4018-9D88-6445866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7C8F-846E-4418-A0E7-CA572B56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8B1-57F9-4EB9-BCC6-2575F84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89E-0364-4FB5-9066-FB69C20B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7A4-93F4-4046-ABD1-C1DFDC3724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6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22A-5014-4445-ADA5-9FCEF8FABC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34DE-04F4-4B50-8830-0B89DFF919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B76B-3A9A-4D74-8D16-7D21D57CA2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980-DC6C-4CB7-997C-E1B6AC2DB7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66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8133-BB59-43B8-9F0B-E49DC87288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9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l-, Im-, In-, Ir-, Neg-, Non-, Un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28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dibl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Cr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belief; trust; faith)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ble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pable of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rration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l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sensic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legibl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le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root meaning to read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P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tal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mort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- capable of dying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anim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rrever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ep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, with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8" descr="nonsensical.jpg"/>
          <p:cNvPicPr/>
          <p:nvPr/>
        </p:nvPicPr>
        <p:blipFill>
          <a:blip r:embed="rId2"/>
          <a:stretch/>
        </p:blipFill>
        <p:spPr>
          <a:xfrm>
            <a:off x="4800600" y="27432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incredibles.jpg"/>
          <p:cNvPicPr/>
          <p:nvPr/>
        </p:nvPicPr>
        <p:blipFill>
          <a:blip r:embed="rId3"/>
          <a:stretch/>
        </p:blipFill>
        <p:spPr>
          <a:xfrm>
            <a:off x="6934320" y="2362320"/>
            <a:ext cx="1428480" cy="1104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illegible.jpg"/>
          <p:cNvPicPr/>
          <p:nvPr/>
        </p:nvPicPr>
        <p:blipFill>
          <a:blip r:embed="rId4"/>
          <a:stretch/>
        </p:blipFill>
        <p:spPr>
          <a:xfrm>
            <a:off x="5410080" y="4572000"/>
            <a:ext cx="2895840" cy="1905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s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vene 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ene-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m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lu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ween, or amo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8" descr="intervene.jpg"/>
          <p:cNvPicPr/>
          <p:nvPr/>
        </p:nvPicPr>
        <p:blipFill>
          <a:blip r:embed="rId2"/>
          <a:stretch/>
        </p:blipFill>
        <p:spPr>
          <a:xfrm>
            <a:off x="3352680" y="342900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intersect.jpg"/>
          <p:cNvPicPr/>
          <p:nvPr/>
        </p:nvPicPr>
        <p:blipFill>
          <a:blip r:embed="rId3"/>
          <a:stretch/>
        </p:blipFill>
        <p:spPr>
          <a:xfrm>
            <a:off x="6400800" y="2895480"/>
            <a:ext cx="19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interview.jpg"/>
          <p:cNvPicPr/>
          <p:nvPr/>
        </p:nvPicPr>
        <p:blipFill>
          <a:blip r:embed="rId4"/>
          <a:stretch/>
        </p:blipFill>
        <p:spPr>
          <a:xfrm>
            <a:off x="7238880" y="0"/>
            <a:ext cx="1714680" cy="160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internet.jpg"/>
          <p:cNvPicPr/>
          <p:nvPr/>
        </p:nvPicPr>
        <p:blipFill>
          <a:blip r:embed="rId5"/>
          <a:stretch/>
        </p:blipFill>
        <p:spPr>
          <a:xfrm>
            <a:off x="7772400" y="518148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interstate.jpg"/>
          <p:cNvPicPr/>
          <p:nvPr/>
        </p:nvPicPr>
        <p:blipFill>
          <a:blip r:embed="rId6"/>
          <a:stretch/>
        </p:blipFill>
        <p:spPr>
          <a:xfrm>
            <a:off x="4343400" y="5334120"/>
            <a:ext cx="189540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a-, Intr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m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s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ven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sp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ide, or with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8" descr="introspect.jpg"/>
          <p:cNvPicPr/>
          <p:nvPr/>
        </p:nvPicPr>
        <p:blipFill>
          <a:blip r:embed="rId2"/>
          <a:stretch/>
        </p:blipFill>
        <p:spPr>
          <a:xfrm>
            <a:off x="426708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intravenous.jpg"/>
          <p:cNvPicPr/>
          <p:nvPr/>
        </p:nvPicPr>
        <p:blipFill>
          <a:blip r:embed="rId3"/>
          <a:stretch/>
        </p:blipFill>
        <p:spPr>
          <a:xfrm>
            <a:off x="1676520" y="4876920"/>
            <a:ext cx="1600200" cy="1514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interstate.jpg"/>
          <p:cNvPicPr/>
          <p:nvPr/>
        </p:nvPicPr>
        <p:blipFill>
          <a:blip r:embed="rId4"/>
          <a:stretch/>
        </p:blipFill>
        <p:spPr>
          <a:xfrm>
            <a:off x="6477120" y="3276720"/>
            <a:ext cx="1895400" cy="1295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introduce.jpg"/>
          <p:cNvPicPr/>
          <p:nvPr/>
        </p:nvPicPr>
        <p:blipFill>
          <a:blip r:embed="rId5"/>
          <a:stretch/>
        </p:blipFill>
        <p:spPr>
          <a:xfrm>
            <a:off x="5867280" y="5105520"/>
            <a:ext cx="1981440" cy="1276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introvert.jpg"/>
          <p:cNvPicPr/>
          <p:nvPr/>
        </p:nvPicPr>
        <p:blipFill>
          <a:blip r:embed="rId6"/>
          <a:stretch/>
        </p:blipFill>
        <p:spPr>
          <a:xfrm>
            <a:off x="7010280" y="228600"/>
            <a:ext cx="16765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-j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505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ut or out of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pro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forth or forward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-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gain or back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throw out or c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9" descr="object.jpg"/>
          <p:cNvPicPr/>
          <p:nvPr/>
        </p:nvPicPr>
        <p:blipFill>
          <a:blip r:embed="rId2"/>
          <a:stretch/>
        </p:blipFill>
        <p:spPr>
          <a:xfrm>
            <a:off x="6248520" y="3048120"/>
            <a:ext cx="1942920" cy="144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eject.jpg"/>
          <p:cNvPicPr/>
          <p:nvPr/>
        </p:nvPicPr>
        <p:blipFill>
          <a:blip r:embed="rId3"/>
          <a:stretch/>
        </p:blipFill>
        <p:spPr>
          <a:xfrm>
            <a:off x="4191120" y="5029200"/>
            <a:ext cx="1390680" cy="1295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inject.jpg"/>
          <p:cNvPicPr/>
          <p:nvPr/>
        </p:nvPicPr>
        <p:blipFill>
          <a:blip r:embed="rId4"/>
          <a:stretch/>
        </p:blipFill>
        <p:spPr>
          <a:xfrm>
            <a:off x="7391520" y="152280"/>
            <a:ext cx="1438200" cy="1295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recject.jpg"/>
          <p:cNvPicPr/>
          <p:nvPr/>
        </p:nvPicPr>
        <p:blipFill>
          <a:blip r:embed="rId5"/>
          <a:stretch/>
        </p:blipFill>
        <p:spPr>
          <a:xfrm>
            <a:off x="6248520" y="4800600"/>
            <a:ext cx="2066760" cy="144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2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gra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gra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metric unit of weigh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liter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li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r= a metric measure of volume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meter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eter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measur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t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wa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housand; characterized by a thous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6" descr="kilogram.jpg"/>
          <p:cNvPicPr/>
          <p:nvPr/>
        </p:nvPicPr>
        <p:blipFill>
          <a:blip r:embed="rId2"/>
          <a:stretch/>
        </p:blipFill>
        <p:spPr>
          <a:xfrm>
            <a:off x="4114800" y="4800600"/>
            <a:ext cx="2076480" cy="1676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kilowatt.jpg"/>
          <p:cNvPicPr/>
          <p:nvPr/>
        </p:nvPicPr>
        <p:blipFill>
          <a:blip r:embed="rId3"/>
          <a:stretch/>
        </p:blipFill>
        <p:spPr>
          <a:xfrm>
            <a:off x="6858000" y="35053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kilometer.jpg"/>
          <p:cNvPicPr/>
          <p:nvPr/>
        </p:nvPicPr>
        <p:blipFill>
          <a:blip r:embed="rId4"/>
          <a:stretch/>
        </p:blipFill>
        <p:spPr>
          <a:xfrm>
            <a:off x="7315200" y="304920"/>
            <a:ext cx="12859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9-10-15T21:32:51Z</dcterms:modified>
  <cp:revision>28</cp:revision>
  <dc:subject/>
  <dc:title>Roots List #1</dc:title>
</cp:coreProperties>
</file>